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080-0C26-40F2-BFB7-341131A9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6B3-0BA1-40DF-9DE7-860A3CA6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85B-8253-4770-A4D0-23F7672A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FF3-2E4B-40DE-8313-6E96C802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517-99B2-44A2-BAF5-7626033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71A-D0AD-4FB2-9313-F5A38311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8C7-B28C-4A6E-BBC1-58D73AE8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8C9-2CCF-4D7F-899A-539B0508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8FE-3B5B-4850-AAE8-02A275AD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900-420F-4F58-A82B-DBCB221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83C-2FB4-4AC2-930C-1FF6FA5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8E5-18F3-4B44-90B1-B4EF425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3E7A-1B59-40AA-832C-4CBD81F0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40044ekIzaANufR_ph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49568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حياتي فبينَ ي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أشواقي فهيَ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ي لستُ أطلبُ شيئا من ل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غيرَ حبِّك الأمينِ والسعيِ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ه هي طَلبتي، هذي مني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استجب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pmass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4572000" cy="88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شفني وقُتني بخبزِ الس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ا اعتراني جوعٌ أو ظم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جعل في فؤادي حبَّ الانت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تأني في سبيل حفظ ود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ذا أخطأتُ هبني الندم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عزاءَ يا إل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215561trgpRaNsdy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72000"/>
            <a:ext cx="883908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ا ما ضعفتُ أنتَ قوتي إذا ما حزنتُ أنتَ سل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ك القديرُ شدِّد همَّتي لبناءِ الملكوت ما بينَ الأن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َسطِ الصعابِ أُذكر عَهْدَكَ 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انتشل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7:03Z</dcterms:created>
  <dc:creator>SUZANNE.MD</dc:creator>
  <dc:description/>
  <dc:language>en-US</dc:language>
  <cp:lastModifiedBy>USER</cp:lastModifiedBy>
  <dcterms:modified xsi:type="dcterms:W3CDTF">2002-12-12T16:00:54Z</dcterms:modified>
  <cp:revision>1</cp:revision>
  <dc:subject/>
  <dc:title>PowerPoint Presentation</dc:title>
</cp:coreProperties>
</file>